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00B5-9F53-4DA2-B732-B1F410F48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7B70-1FEE-4B62-8417-9D99C0B8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0B50-2B12-44A8-A23D-53D94B8D7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A4D1-DF0D-4D03-A773-73D9C59DA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CEF4-CAFA-4AFC-A3F7-79866E87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55AD-E25A-4CE2-86DE-7F6A0155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7DEB-899D-4C9E-B427-F4E36E8B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FA55-E854-49B2-A6C5-0BFA4D32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BC8B-3D86-4F54-A8CC-BC1B05E0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28AB-4713-4CB1-B278-00BD9CC4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563B-F62D-4460-B4FF-6AF85D78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55B5-9B09-4A6D-AEC4-0F9AE07F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6258-023D-4EA0-9373-76918244A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ore On Remaind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80880"/>
            <a:ext cx="868680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) How many 17p bars of chocolate can you buy for £1.4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219320"/>
            <a:ext cx="8077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) How much change would you hav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1905120"/>
            <a:ext cx="2306520" cy="1214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227640" y="299736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Microsoft clip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8600"/>
            <a:ext cx="8686800" cy="101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A bus can carry 63 peop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) How many buses are required for an outing for 340 peopl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676520"/>
            <a:ext cx="861048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) How many people are on the bus that is not full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19920" y="2286000"/>
            <a:ext cx="2743200" cy="1585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524720" y="393372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Microsoft clip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380880"/>
            <a:ext cx="8686800" cy="13816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A postman can deliver 750 items of post in a d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) How many postmen would be required to deliver 6240 items of pos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981080"/>
            <a:ext cx="83059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) How many items of post would the postmen without a full round delive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477120" y="2895480"/>
            <a:ext cx="2057400" cy="1737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308720" y="458136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Microsoft clip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8088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80880"/>
            <a:ext cx="8534160" cy="138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 To take a pupil on a trip costs £5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) How many pupils can go on the trip if the school has £3200 saved in the excursion fu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209680"/>
            <a:ext cx="830592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) How much money is left once the trip is paid fo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239920" cy="1873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164360" y="472428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Microsoft clip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380880"/>
            <a:ext cx="8915400" cy="101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6) Calculators cost £5.50 e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) How many can be bought for £492.50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752480"/>
            <a:ext cx="655308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) How much money is left in the calculator fun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705720" y="1523880"/>
            <a:ext cx="1782720" cy="2438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451640" y="393372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Microsoft clip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7:50:29Z</dcterms:created>
  <dc:creator>LT Scotland</dc:creator>
  <dc:description/>
  <dc:language>en-US</dc:language>
  <cp:lastModifiedBy>LTS</cp:lastModifiedBy>
  <dcterms:modified xsi:type="dcterms:W3CDTF">2004-11-28T13:42:00Z</dcterms:modified>
  <cp:revision>4</cp:revision>
  <dc:subject/>
  <dc:title>Access 3 Mathematics: Unit 1 Outcome 1 - More On Remainders.</dc:title>
</cp:coreProperties>
</file>